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758-AECF-4906-8B6E-FB5625F7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087-0A74-499D-9718-372B737B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5DC8-9C6D-43A0-BB9A-CD2E3FD6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E32-84C0-401E-ADA1-114B22E7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8684-D542-42BB-924D-C4F033B8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5ED1-1BD6-4856-B515-E795138E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1D59-9726-4502-B536-CF9DAF3C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16D1-1CA1-4262-9F90-6A49A49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FFF6-E4C6-4B2B-83B1-E0714E11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C073-E6EB-47C1-A898-749A3386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BCA1-90A0-46F2-9EAA-84E50AE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107-0293-46E7-A4A1-4810836A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DEE2-9AEC-4191-9B2C-1657F44D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90BC-4D96-49CB-A5F3-169BDF1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9DD3-F923-42D2-A1B6-9314C86D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0DA7-2FB9-4B34-8BBD-DD743817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DBF5-B361-4BDF-A0B5-E80038C4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B46-63C3-4977-AD90-B235078C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461-A435-46B1-90D0-F147E8DA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F2E8-D7B2-4098-9BB4-E56465CF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4D6-D6B4-4146-B502-A3D1A3F4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48E-2207-4382-BB19-DBCC4829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FDB-69AE-4249-8927-71F5E60C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DBE-111D-4103-8EFF-653B3835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BFCB-DB06-407E-8221-E7E73824EA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FC4C-9AFB-4D1A-8A03-FA69341256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ptember 2003 Updat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GBrowse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905" t="28856" r="2830" b="13655"/>
          <a:stretch/>
        </p:blipFill>
        <p:spPr>
          <a:xfrm>
            <a:off x="838080" y="1824120"/>
            <a:ext cx="7751880" cy="3738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Documentation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PODified Documentatio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an pag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ex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TM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One-click web pag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llustrated tutoria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o database need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Installation Helper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enbank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UCSC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Two version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dfly2GFF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FF3 Suppor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Schema Enhancemen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hado support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ost (all?) performance issues resolved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io::DB::GFF improv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elete/update support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pdate plugi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Other Notable Happening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SB GBrowse” release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data sourc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AS integration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n’s GBrowse”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ARC GBrowse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Closed loop system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9-15T15:49:54Z</dcterms:modified>
  <cp:revision>544</cp:revision>
  <dc:subject/>
  <dc:title>Training</dc:title>
</cp:coreProperties>
</file>